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B2D-7551-412D-8EF6-537F3525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6CE-2E9D-4D4C-B86B-92ED9049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FFB-14CE-4B7C-83CD-AE2F2179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63E-91ED-4E77-99AB-16EA1753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1758-47A9-4E8E-9E04-BADCC20C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1120-65A5-42D3-B176-8E230629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59B3-F887-479D-AF59-2BBA7EAF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FCA7-4BEB-4624-8928-8475F834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D7B9-473C-4500-9D1A-04F683F2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35D5-B213-40DE-B524-76500033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3CD1-4BA0-4D2C-AF1B-3200F2D9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484-AED9-4BCF-AE8B-E504D084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8E75-185B-457A-883E-61FA0A5A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49FF-6288-43CF-A55E-2DEEE58C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AD14-6830-4F27-AEDB-23ADCC93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CDAB-D8A5-4E50-B955-F2601844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7653-D56C-4C93-A583-5EE3924A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7BC-FE76-4674-8228-4B57C389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E16-3B86-417A-95DF-302C1AF0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DC1-2F5B-4345-A7AE-92931FEA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D63-272F-42F4-A1CF-4B74A843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812-DFDF-4F32-B20C-A45CAAE2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828-AB8B-4C74-B9B1-8A20200A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0A1-6A24-44CD-A6B9-79888CF8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B50D-B1B5-4C59-AD4A-443911FFCA3A}" type="slidenum">
              <a: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F516-99E2-4BCF-A86E-F281ACFB099C}" type="slidenum">
              <a: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hsdirect.nhs.uk/articles/article.aspx?articleID=152" TargetMode="External"/><Relationship Id="rId3" Type="http://schemas.openxmlformats.org/officeDocument/2006/relationships/hyperlink" Target="http://www.nhsdirect.nhs.uk/articles/article.aspx?articleID=152" TargetMode="External"/><Relationship Id="rId4" Type="http://schemas.openxmlformats.org/officeDocument/2006/relationships/hyperlink" Target="http://www.nhsdirect.nhs.uk/articles/article.aspx?articleID=152" TargetMode="External"/><Relationship Id="rId5" Type="http://schemas.openxmlformats.org/officeDocument/2006/relationships/hyperlink" Target="http://www.nhsdirect.nhs.uk/articles/article.aspx?articleID=152" TargetMode="External"/><Relationship Id="rId6" Type="http://schemas.openxmlformats.org/officeDocument/2006/relationships/hyperlink" Target="http://www.nhsdirect.nhs.uk/articles/article.aspx?articleID=152" TargetMode="External"/><Relationship Id="rId7" Type="http://schemas.openxmlformats.org/officeDocument/2006/relationships/hyperlink" Target="http://www.nhsdirect.nhs.uk/articles/article.aspx?articleID=152" TargetMode="External"/><Relationship Id="rId8" Type="http://schemas.openxmlformats.org/officeDocument/2006/relationships/hyperlink" Target="http://www.nhsdirect.nhs.uk/articles/article.aspx?articleID=152" TargetMode="External"/><Relationship Id="rId9" Type="http://schemas.openxmlformats.org/officeDocument/2006/relationships/hyperlink" Target="http://www.nhsdirect.nhs.uk/articles/article.aspx?articleID=152" TargetMode="External"/><Relationship Id="rId10" Type="http://schemas.openxmlformats.org/officeDocument/2006/relationships/hyperlink" Target="http://www.nhsdirect.nhs.uk/articles/article.aspx?articleID=152" TargetMode="External"/><Relationship Id="rId11" Type="http://schemas.openxmlformats.org/officeDocument/2006/relationships/hyperlink" Target="http://www.nhsdirect.nhs.uk/articles/article.aspx?articleID=152" TargetMode="External"/><Relationship Id="rId12" Type="http://schemas.openxmlformats.org/officeDocument/2006/relationships/hyperlink" Target="http://www.bbc.co.uk/health/conditions/bedwetting1.shtml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Nocturnal enuresis? Why?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486400" y="380520"/>
            <a:ext cx="2797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Yunji Park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3962520" cy="4097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95680" y="2133720"/>
            <a:ext cx="4357800" cy="3267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105520" y="57913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Why?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balance between night-time urine production and the capacity of the bladder to hold i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tic reas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557360"/>
            <a:ext cx="3505320" cy="2336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5800" y="4078440"/>
            <a:ext cx="342900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Why? - continued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ything that gets kids tir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tip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betes/ kidney fail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xie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ck of the hormone AD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37335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  <a:ea typeface="굴림"/>
              </a:rPr>
              <a:t>Who?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33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/6 of 5 year old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/11 of 9 year old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/50 to 1/100 of the age of 15 or older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stly boy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ildren's bladder function control and night-time urine production is slow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This is very common until the age of 3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9829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Symptoms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19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really a disease so there is no real symptom.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psychological sympto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ople feel embarrassed, ashamed, disgusted, and mor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3302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Treatments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caffeine drink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ink lots of liquid during the whole day. ( not just at hom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 drink after 6 p.m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 to the bathroom before sleep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drugs, but not useful for long-ter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t on a pott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eaning up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books or heavy stuff over newspaper that is over the spot you’ve w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0102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Punishmen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h- Joom-Ssa-Geh =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  <a:ea typeface="굴림"/>
              </a:rPr>
              <a:t>오줌싸개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Kids used to wear these on their heads and go around the neighborhood to ask for sal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495680" cy="3136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495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Work cited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5a254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2800" spc="-1" strike="noStrike" u="sng">
                <a:solidFill>
                  <a:srgbClr val="e5a254"/>
                </a:solidFill>
                <a:uFillTx/>
                <a:latin typeface="Arial"/>
                <a:hlinkClick r:id="rId3"/>
              </a:rPr>
              <a:t>nhsdirect</a:t>
            </a:r>
            <a:r>
              <a:rPr b="0" lang="en-US" sz="2800" spc="-1" strike="noStrike" u="sng">
                <a:solidFill>
                  <a:srgbClr val="e5a254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e5a254"/>
                </a:solidFill>
                <a:uFillTx/>
                <a:latin typeface="Arial"/>
                <a:hlinkClick r:id="rId5"/>
              </a:rPr>
              <a:t>nhs</a:t>
            </a:r>
            <a:r>
              <a:rPr b="0" lang="en-US" sz="2800" spc="-1" strike="noStrike" u="sng">
                <a:solidFill>
                  <a:srgbClr val="e5a254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e5a254"/>
                </a:solidFill>
                <a:uFillTx/>
                <a:latin typeface="Arial"/>
                <a:hlinkClick r:id="rId7"/>
              </a:rPr>
              <a:t>uk/articles/article</a:t>
            </a:r>
            <a:r>
              <a:rPr b="0" lang="en-US" sz="2800" spc="-1" strike="noStrike" u="sng">
                <a:solidFill>
                  <a:srgbClr val="e5a254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800" spc="-1" strike="noStrike" u="sng">
                <a:solidFill>
                  <a:srgbClr val="e5a254"/>
                </a:solidFill>
                <a:uFillTx/>
                <a:latin typeface="Arial"/>
                <a:hlinkClick r:id="rId9"/>
              </a:rPr>
              <a:t>aspx</a:t>
            </a:r>
            <a:r>
              <a:rPr b="0" lang="en-US" sz="2800" spc="-1" strike="noStrike" u="sng">
                <a:solidFill>
                  <a:srgbClr val="e5a254"/>
                </a:solidFill>
                <a:uFillTx/>
                <a:latin typeface="Arial"/>
                <a:hlinkClick r:id="rId10"/>
              </a:rPr>
              <a:t>?</a:t>
            </a:r>
            <a:r>
              <a:rPr b="0" lang="en-US" sz="2800" spc="-1" strike="noStrike" u="sng">
                <a:solidFill>
                  <a:srgbClr val="e5a254"/>
                </a:solidFill>
                <a:uFillTx/>
                <a:latin typeface="Arial"/>
                <a:hlinkClick r:id="rId11"/>
              </a:rPr>
              <a:t>articleID=15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5a254"/>
                </a:solidFill>
                <a:uFillTx/>
                <a:latin typeface="Arial"/>
                <a:hlinkClick r:id="rId12"/>
              </a:rPr>
              <a:t>http://www.bbc.co.uk/health/conditions/bedwetting1.sht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68440" y="4470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41:07Z</dcterms:created>
  <dc:creator>Yunji Park</dc:creator>
  <dc:description/>
  <dc:language>en-US</dc:language>
  <cp:lastModifiedBy>Yunji Park</cp:lastModifiedBy>
  <dcterms:modified xsi:type="dcterms:W3CDTF">2008-10-09T03:13:08Z</dcterms:modified>
  <cp:revision>7</cp:revision>
  <dc:subject/>
  <dc:title>Nocturnal enuresis? Why?</dc:title>
</cp:coreProperties>
</file>